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2B6F-1AF6-4624-AD69-ABEB3AE4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50C-A16B-4AD3-AD25-C1408E28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631-71D7-49BA-9D48-D361A1CC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39B-1F38-490B-8F11-1657EB53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8C3D-8DEF-4121-9440-FEECDB3A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EDA0-64DA-4034-85D8-1E0104A6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D47E-81DB-48CD-AA43-F9202F2F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C54B-9410-49EB-8880-D8D2A277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B6E2-FD1D-4B39-8DB8-61FC4488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2E7B-7483-44BB-8DDD-EC5E3A78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7667-6E30-4D1C-A933-1496B29B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118F-986A-42E5-B5FE-B821EE14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B269-EAF8-4EBE-BA68-E6439640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000A-2DBD-49FB-B82C-6E136E2F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C92C-F667-4789-9C23-424E262D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9F1C-B947-421C-9600-5A23BF98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7D20-34EE-4197-995F-2DC9DE34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C0576-33F4-44E7-81F3-3B8BDDA5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703DC-B8ED-4BB7-9110-47019988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74665-221A-442F-A52B-57BB8295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38AB4-F996-4266-9D63-7DDA5889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E2C7D-DA82-4965-AE8D-F1883F4B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7E6-F3E9-4B6D-82CD-7ABB93CC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523D3-5606-4BE8-BEAA-82EBE596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948B-F6F2-4C3F-BE63-567A2E95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0FC53-6160-4565-9D9F-BE033A69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BF04A-BD5A-4D73-A386-79731213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575DA-8A43-4C9E-B0FE-95BD7455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981A5-4F19-406D-9D9C-E64B7D52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0394E-4D16-4201-A212-6B7ABB83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F4DF0-544C-4D72-8912-E52F9C1E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6401E-DE71-4635-803F-DA650526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D73F1-B886-4B62-BA8A-28744CC3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3BD5-AE15-4358-AEB4-96AEEB0A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AF595-9D86-4C1C-A701-5C2F2D90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8C797-0C38-4987-9E88-F17C8AAA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7122C-8898-41BE-BE00-8AEF9A1D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1E907-CF01-4D56-B985-D2A34D8B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886E2-30DE-464E-85AE-C411E3BC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18C77-43C4-418F-AEB6-60B6BFB3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9745E-092B-40A6-9A2D-74AD151D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EF582-3D61-4722-A1B2-43104DC1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B14FD-6DC0-4F8E-BFB3-19AEF099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30C5B-D0DF-4E21-8CFF-C40E328E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F8C5-4817-433A-816B-63A57B24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EB65C-FC1E-4EC0-B9FC-1829DD6E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445AF-7657-4B7A-86A5-923BD45A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D1BAE-009A-4DBB-B934-4966D1DE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A3F8E-8859-48CD-8BD4-5A24DEC6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C4B46-5E5E-46C9-A389-9545B542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0D2AF-76B4-4030-9394-3A6D075F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CAADE-08CC-445F-9B04-260BED4C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8D3F0-CAD2-42DA-A0AA-D2E6951B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EB6DB-FC02-4875-A6F4-4287B9DD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EE5A3-49C8-4C76-81A4-2FD20076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0E15-E208-446A-B6EC-5A130260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54E43-E7E0-4C51-B1D7-B0071D60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C7E-9F85-40B9-826B-24C3F2C9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0EC7-00F8-4AA4-B9A3-10CE3F85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284-32E0-429E-B5B9-6250A8C2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6845-C905-4D74-A2FF-7E01E25B57DA}" type="slidenum">
              <a:rPr b="0" lang="es-PE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690E-A342-4BDE-8198-B5C125575C83}" type="slidenum">
              <a:rPr b="0" lang="es-PE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DD10-F0A4-49E2-AFBD-8F31E90AEB7B}" type="slidenum">
              <a:rPr b="0" lang="es-PE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6D58-6510-453C-9689-6A90FE7C2841}" type="slidenum">
              <a:rPr b="0" lang="es-PE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09EC-AF73-451F-AF18-0210F6956F9A}" type="slidenum">
              <a:rPr b="0" lang="es-PE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1 Título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162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ttp://www.porque.es/imagenes/inteligencia.jpg"/>
          <p:cNvPicPr/>
          <p:nvPr/>
        </p:nvPicPr>
        <p:blipFill>
          <a:blip r:embed="rId2"/>
          <a:stretch/>
        </p:blipFill>
        <p:spPr>
          <a:xfrm>
            <a:off x="4286160" y="2571840"/>
            <a:ext cx="33339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1 Título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1426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Trebuchet MS"/>
              </a:rPr>
              <a:t>Es una herramienta de aprendizaje que permite representar y organizar la información de manera que pueda ser asimilada y recordada fácilmente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b050"/>
                </a:solidFill>
                <a:latin typeface="Trebuchet MS"/>
              </a:rPr>
              <a:t>Procedimiento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Trebuchet MS"/>
              </a:rPr>
              <a:t>Lee el texto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Trebuchet MS"/>
              </a:rPr>
              <a:t>Reconoce el tema central y coloca una imagen que lo represente en el mapa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Trebuchet MS"/>
              </a:rPr>
              <a:t>Los principales subtemas irradiarán de la imagen central de forma ramificada y con una palabra clave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rebuchet MS"/>
              </a:rPr>
              <a:t>Las ideas de menor importancia también serán representadas como ramas adhesivas a las del nivel superio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ff0000"/>
                </a:solidFill>
                <a:latin typeface="Trebuchet MS"/>
              </a:rPr>
              <a:t>VENTAJAS</a:t>
            </a:r>
            <a:r>
              <a:rPr b="0" lang="es-PE" sz="26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rebuchet MS"/>
              </a:rPr>
              <a:t>SENCILLO DE ELABORA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rebuchet MS"/>
              </a:rPr>
              <a:t>SE PUEDE ENRIQUECER CON IMÁGEN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rebuchet MS"/>
              </a:rPr>
              <a:t>FACILITA EL ESTUDIO DE TEMA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rebuchet MS"/>
              </a:rPr>
              <a:t>AYUDA A RECORDAR LA INFORMACIÓN CON FACILIDA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://www.mapamental.com.ar/img/T%C3%A9cnicas%20de%20Mapas%20Mentales-imagemap.gif"/>
          <p:cNvPicPr/>
          <p:nvPr/>
        </p:nvPicPr>
        <p:blipFill>
          <a:blip r:embed="rId1"/>
          <a:stretch/>
        </p:blipFill>
        <p:spPr>
          <a:xfrm>
            <a:off x="0" y="0"/>
            <a:ext cx="81439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corporaciongiq.edu.co/GIQ/img/mapa%20mental3.GIF"/>
          <p:cNvPicPr/>
          <p:nvPr/>
        </p:nvPicPr>
        <p:blipFill>
          <a:blip r:embed="rId1"/>
          <a:stretch/>
        </p:blipFill>
        <p:spPr>
          <a:xfrm>
            <a:off x="138240" y="0"/>
            <a:ext cx="857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http://cibercim.com/contenido%201%20cmim/MAPAS-MENTALES%5B1%5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http://www.proyectoespiga.com/images/letras/mapa_mental55.jpg"/>
          <p:cNvPicPr/>
          <p:nvPr/>
        </p:nvPicPr>
        <p:blipFill>
          <a:blip r:embed="rId1"/>
          <a:stretch/>
        </p:blipFill>
        <p:spPr>
          <a:xfrm>
            <a:off x="0" y="0"/>
            <a:ext cx="814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www.icesi.edu.co/blogs_estudiantes/juanmora/files/2008/10/ment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23:13:51Z</dcterms:created>
  <dc:creator>Computo</dc:creator>
  <dc:description/>
  <dc:language>en-US</dc:language>
  <cp:lastModifiedBy>Computo</cp:lastModifiedBy>
  <dcterms:modified xsi:type="dcterms:W3CDTF">2009-11-03T23:35:44Z</dcterms:modified>
  <cp:revision>3</cp:revision>
  <dc:subject/>
  <dc:title>EL MAPA MENTAL</dc:title>
</cp:coreProperties>
</file>